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2312-D73A-46E3-9E44-18EF16A13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thodsofhealing.com/the-advantages-and-disadvantages-of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aniwalker.com/stop-aging-now-telomere-supple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siselinternational.com/?p=15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news.in/health/physical-activity-may-prevent-stress-telomeres-21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E6A-C83D-486A-A1CD-7F77371C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426-4D43-4A27-A840-AC4FC727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E35-C70F-4C1C-82D3-A52985A0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6BC-652D-4FD8-B2FB-C80A80E7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A2F-B3B3-4406-94A1-00BD208D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40D-7C05-4403-B80E-A044A286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456-FE9E-4DBC-A590-41A596C4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6FE-C567-4335-AF5D-EE2944A7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473-5D3B-4ED3-A9AA-0AEA691A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99D-5C1B-4CF2-8E3E-959F2C9E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516-08BE-4460-B385-DC3DA91F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C03-DD87-4D70-9908-C369E5D1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264C-9FAE-41B9-99BE-49C9C204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c_%20education%20mac.htm" TargetMode="External"/><Relationship Id="rId2" Type="http://schemas.openxmlformats.org/officeDocument/2006/relationships/hyperlink" Target="http://www.biostudio.com/c_%20education%20mac.htm" TargetMode="External"/><Relationship Id="rId3" Type="http://schemas.openxmlformats.org/officeDocument/2006/relationships/hyperlink" Target="http://www.biostudio.com/c_%20education%20mac.htm" TargetMode="External"/><Relationship Id="rId4" Type="http://schemas.openxmlformats.org/officeDocument/2006/relationships/hyperlink" Target="http://www.biostudio.com/c_%20education%20mac.htm" TargetMode="External"/><Relationship Id="rId5" Type="http://schemas.openxmlformats.org/officeDocument/2006/relationships/hyperlink" Target="http://www.biostudio.com/c_%20education%20mac.htm" TargetMode="External"/><Relationship Id="rId6" Type="http://schemas.openxmlformats.org/officeDocument/2006/relationships/hyperlink" Target="http://www.biostudio.com/c_%20education%20mac.htm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08160" y="198108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 Walker “Stop Aging Now TS-X Telomere Supple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7840" y="1981080"/>
            <a:ext cx="41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10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noi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group of 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iled into chromatin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studio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/c_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%20education%20mac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DNA is single circul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ther circular pieces of DNA contained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ids can be exchang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ome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n-coding, repetitive sequences at the end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plication, the 5’ primer on each strand is removed but not replaced with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meres shorten after each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any replications, telomeres will eventually disappear, allowing coding DNA to be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 sen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yflick li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otal number of times a normal cell can divide (about 50 in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2-04-19T16:43:48Z</dcterms:modified>
  <cp:revision>61</cp:revision>
  <dc:subject/>
  <dc:title>Molecular Genetics</dc:title>
</cp:coreProperties>
</file>